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CEE1-BCDB-48A8-9D1C-DF975E33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13A4-D900-47C8-A158-92872B3A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AC67-BFC9-4684-AB2F-525D10AE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7AE2-714E-457D-99A1-E83455E4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41F3-BD59-44D0-8F17-69CCA4F1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2819-FF27-4F59-ABE0-66AB4BF3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21BD-019B-430B-A5CC-14FD27FD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373F-A2AD-48BF-850B-CFF85162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1B9-CE76-4EAA-A7CD-FCB3BE0B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0FA-C627-4EFB-94A7-656F6C4F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227C-8E77-4103-94C1-2DB3E44C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B635-AAB4-4627-A8CA-0A94AF64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B544-1C6E-4AA5-AF1F-FAFA339DB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esus-face+thorns+blood" descr=""/>
          <p:cNvPicPr/>
          <p:nvPr/>
        </p:nvPicPr>
        <p:blipFill>
          <a:blip r:embed="rId2"/>
          <a:stretch/>
        </p:blipFill>
        <p:spPr>
          <a:xfrm>
            <a:off x="4302000" y="0"/>
            <a:ext cx="484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267080" cy="9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  <a:cs typeface="Times New Roman"/>
              </a:rPr>
              <a:t>في مشهدٍ أدمى العيون في أَلمٍ لم ينته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  <a:cs typeface="Times New Roman"/>
              </a:rPr>
              <a:t>ربُّ السماءِ قد روى أرضاً طَغَتْ من دمه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  <a:cs typeface="Times New Roman"/>
              </a:rPr>
              <a:t>أَذكُرُ أني يَومها شاركْتُ في تسميره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  <a:cs typeface="Times New Roman"/>
              </a:rPr>
              <a:t>عَيني بعينهِ التَقَت رأيتُ دمعةً وقال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euswep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0" y="3886200"/>
            <a:ext cx="45720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أحبَبْتُكم للمنتهى  أحببتكم بلا حد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وصيَّتي " حبّوا كما  أحببتكم بلا حدود</a:t>
            </a:r>
            <a:r>
              <a:rPr b="1" lang="ar-SA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"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6257786BKgRhTuZiB_ph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0"/>
            <a:ext cx="3657600" cy="11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وعشتُ أياماً طَوَت قلباً لَوى مِن كَرْبِه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فما استطعتُ لَحظَةً أن أَختفي مِن حبِّ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وتابَ قلبي نادماً فذاق حُبَّ رَبِّ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أجثو وقلبي ينسبي إذ أَسمع الفادي يقول</a:t>
            </a:r>
            <a:r>
              <a:rPr b="1" lang="ar-SA" sz="4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: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7112176uwhvKdoRUB_ph" descr=""/>
          <p:cNvPicPr/>
          <p:nvPr/>
        </p:nvPicPr>
        <p:blipFill>
          <a:blip r:embed="rId1"/>
          <a:stretch/>
        </p:blipFill>
        <p:spPr>
          <a:xfrm>
            <a:off x="3809880" y="0"/>
            <a:ext cx="542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9880" cy="89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ندما يُسيءُ لي أخٌ قريبٌ أن بعيد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تغتلي في داخلي جميعُ أَصْنافِ الوَع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وشِكُ أن أَرُدَّها ضِعفاً بإصرارٍ يز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فجأةً يَحصُرُني صوتٌ من العُلى يقول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0:32:07Z</dcterms:created>
  <dc:creator>SUZANNE.MD</dc:creator>
  <dc:description/>
  <dc:language>en-US</dc:language>
  <cp:lastModifiedBy>SUZANNE.MD</cp:lastModifiedBy>
  <dcterms:modified xsi:type="dcterms:W3CDTF">2003-03-10T10:45:09Z</dcterms:modified>
  <cp:revision>1</cp:revision>
  <dc:subject/>
  <dc:title>PowerPoint Presentation</dc:title>
</cp:coreProperties>
</file>